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2.xml"/><Relationship Id="rId4" Type="http://schemas.openxmlformats.org/officeDocument/2006/relationships/slide" Target="slide7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8" idx="3"/>
            <a:endCxn id="99" idx="1"/>
          </p:cNvCxnSpPr>
          <p:nvPr/>
        </p:nvCxnSpPr>
        <p:spPr>
          <a:xfrm flipV="1">
            <a:off x="3303720" y="3404160"/>
            <a:ext cx="2708640" cy="67680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98" idx="3"/>
            <a:endCxn id="100" idx="1"/>
          </p:cNvCxnSpPr>
          <p:nvPr/>
        </p:nvCxnSpPr>
        <p:spPr>
          <a:xfrm>
            <a:off x="3303720" y="4080600"/>
            <a:ext cx="2708640" cy="67500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6021360" y="1494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21360" y="5546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98" idx="3"/>
            <a:endCxn id="103" idx="1"/>
          </p:cNvCxnSpPr>
          <p:nvPr/>
        </p:nvCxnSpPr>
        <p:spPr>
          <a:xfrm flipV="1">
            <a:off x="3303720" y="2054880"/>
            <a:ext cx="2718000" cy="202608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6" name=""/>
          <p:cNvCxnSpPr>
            <a:stCxn id="98" idx="3"/>
            <a:endCxn id="104" idx="1"/>
          </p:cNvCxnSpPr>
          <p:nvPr/>
        </p:nvCxnSpPr>
        <p:spPr>
          <a:xfrm>
            <a:off x="3303720" y="4080600"/>
            <a:ext cx="2718000" cy="202752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916560" y="54936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61200" y="549360"/>
            <a:ext cx="32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9" idx="3"/>
            <a:endCxn id="11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4" name=""/>
          <p:cNvCxnSpPr>
            <a:endCxn id="11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71000" y="549360"/>
            <a:ext cx="63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vorwiegend 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6" idx="3"/>
            <a:endCxn id="11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ndere Rickettsien-Infektion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influss von Östrog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eLV-Infektio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6396840"/>
            <a:ext cx="285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eLV = felines Leukämieviru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06560" y="549360"/>
            <a:ext cx="49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2" idx="3"/>
            <a:endCxn id="12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ymph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 Sulfonam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 Östr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v. a. Hund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ishmaniose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3800" y="6396840"/>
            <a:ext cx="16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. a. = vor all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brau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8" idx="3"/>
            <a:endCxn id="130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1" name=""/>
          <p:cNvCxnSpPr>
            <a:stCxn id="128" idx="3"/>
            <a:endCxn id="132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C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7000" y="549360"/>
            <a:ext cx="36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hrombozytopenie &gt; Verbrau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0560" y="6396840"/>
            <a:ext cx="43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DIC = disseminierte intravasale Koagulopath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6280" y="54936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hrombozytopenie &gt; 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6" idx="3"/>
            <a:endCxn id="13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mmunmedi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hrombozytopen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hrlichia-platys-Infektion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2" idx="3"/>
            <a:endCxn id="143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6640" y="549360"/>
            <a:ext cx="40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hrombozytopenie &gt; 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5200" y="549360"/>
            <a:ext cx="58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Thrombozytopenie &gt; Sequestration &gt; 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6" idx="3"/>
            <a:endCxn id="14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stemische 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immunkrankheit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lz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lztorsion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5T18:35:16Z</dcterms:modified>
  <cp:revision>326</cp:revision>
  <dc:subject/>
  <dc:title>Vorstellung einer Neuheit</dc:title>
</cp:coreProperties>
</file>